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ABB5E-E5DE-4BE8-9F4D-6AD2BF07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31FD-40FE-48D4-9372-B137026A4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97C45-6423-4627-AAA5-B08D3DC5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BFBA4-CF7B-4032-9539-FB6E63484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D990-30C0-416F-9B70-565C21E1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8A9BD-6FD4-4E4F-B1A2-841C29B2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9ED75-C57B-417E-BA1C-9E0AB088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709C1-98BD-4F42-99E6-9E12B285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A1D06-D524-4175-9B15-7AF6DD26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1745-6351-47C3-8573-A27FDDDA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B027-300D-41E8-ADD2-18FE040E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4C5A-A8AA-4A9C-BF0B-2DB20B23B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898B-5E52-4429-B31A-D3EF7B0B35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6.2. Fokuseerimine.</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Fokuseerimine üldistab tehnikat, mida nimetatakse otsingu tagasipöördumiseks, ja kasutatakse mitmel pool, muuhulgas loogilises programmeerimi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1.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2.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1.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2.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P, siis leidub selline D </a:t>
            </a:r>
            <a:r>
              <a:rPr b="0" lang="et-EE" sz="3200" spc="-1" strike="noStrike">
                <a:solidFill>
                  <a:srgbClr val="000000"/>
                </a:solidFill>
                <a:latin typeface="Times New Roman"/>
              </a:rPr>
              <a:t>	</a:t>
            </a:r>
            <a:r>
              <a:rPr b="0" lang="et-EE" sz="3200" spc="-1" strike="noStrike">
                <a:solidFill>
                  <a:srgbClr val="000000"/>
                </a:solidFill>
                <a:latin typeface="Times New Roman"/>
              </a:rPr>
              <a:t>hulgas </a:t>
            </a:r>
            <a:r>
              <a:rPr b="0" lang="et-EE" sz="3200" spc="-1" strike="noStrike">
                <a:solidFill>
                  <a:srgbClr val="000000"/>
                </a:solidFill>
                <a:latin typeface="Symbol"/>
                <a:ea typeface="Symbol"/>
              </a:rPr>
              <a:t></a:t>
            </a:r>
            <a:r>
              <a:rPr b="0" lang="et-EE" sz="3200" spc="-1" strike="noStrike">
                <a:solidFill>
                  <a:srgbClr val="000000"/>
                </a:solidFill>
                <a:latin typeface="Times New Roman"/>
              </a:rPr>
              <a:t>, et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üüd paneme reeglite pööramise ja otsingu tagasipöördumise kokku.</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rakendatakse pööramisstrateegiat. Kui kõik laused sekventsis on sünkroonsed, siis fokuseerime kas ühele eeldusele või tõestatavale lausele ja rakendame valitud lausele järjest hulka mittepööratavaid reegleid. See faas lõpeb, kui jõutakse kas pööratava tehteni või atomaarlause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ide tõestamisel oleme sageli olukorras, kus meil on mingi hulk lauseid, mis kirjeldavad teooriat ja siis lause, mida me tahame selles teoorias tõestada. Teooriad antakse sageli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P</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 P</a:t>
            </a:r>
            <a:r>
              <a:rPr b="0" lang="et-EE" sz="3200" spc="-1" strike="noStrike" baseline="-30000">
                <a:solidFill>
                  <a:srgbClr val="000000"/>
                </a:solidFill>
                <a:latin typeface="Times New Roman"/>
                <a:ea typeface="Times New Roman"/>
              </a:rPr>
              <a:t>k</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 Sellised hüpoteesid on sünkroonsed, s.t. me peame nende vahel valima, kui tahame mingit atomaarset lauset Q tõest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85800" y="609480"/>
            <a:ext cx="7772400" cy="548640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tsingu tagasipöördumine põhineb kahel tähelepanekul.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iteks, otsing jääb täielikuks, kui me proovime kasutada ainult neid eeldusi, kus P ja Q saab teha võrdseks, omistades x</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x</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sobivad termid.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iseks, kui me kord otsustame, millist eeldust kasutada, siis võime rakendada tervet rida vasakreegleid (siin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L j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L), ilma et peaksime käsitlema teisi sünkroonseid eeldus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lgu meil näiteks teooria, kus on m klauslit, mis defineerivad predikaadi p ja olgu igal klauslil n üldisuse kvantor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gasipöördumisega loome ühe valiku, kus on m võimalust. Kui kasutaksime vaid pööramistaktikat, oleks meil esimesel sammul m valikut, teisel sammul peale ühe kvantori töötlemist m+1 valikut jne., nii et kokku oleks meil m(m+1) … (m+p) valik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defineerime üldisel kujul Horni disjunktid (klausli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klauslid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D ::= P ‌ G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D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eesmärgi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G ::= P ‌ G</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 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teooriad</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itõestamisprobleem Horni loogikas pannakse kirja </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G,</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on Horni teooria ja G Horni eesmärk.</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tsingu tagasipöördumise defineerime kahe hinnangu abi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baseline="-30000">
                <a:solidFill>
                  <a:srgbClr val="000000"/>
                </a:solidFill>
                <a:latin typeface="Times New Roman"/>
                <a:ea typeface="Times New Roman"/>
              </a:rPr>
              <a:t> </a:t>
            </a:r>
            <a:r>
              <a:rPr b="0" lang="et-EE" sz="3200" spc="-1" strike="noStrike" baseline="-30000">
                <a:solidFill>
                  <a:srgbClr val="000000"/>
                </a:solidFill>
                <a:latin typeface="Times New Roman"/>
                <a:ea typeface="Times New Roman"/>
              </a:rPr>
              <a:t>u</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gt; G</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teoori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tõestab G üheselt</a:t>
            </a:r>
            <a:r>
              <a:rPr b="0" lang="et-EE" sz="3200" spc="-1" strike="noStrike" baseline="-30000">
                <a:solidFill>
                  <a:srgbClr val="000000"/>
                </a:solidFill>
                <a:latin typeface="Times New Roman"/>
                <a:ea typeface="Times New Roman"/>
              </a:rPr>
              <a:t>             </a:t>
            </a:r>
            <a:r>
              <a:rPr b="0" lang="et-EE" sz="3200" spc="-1" strike="noStrike" baseline="-30000">
                <a:solidFill>
                  <a:srgbClr val="000000"/>
                </a:solidFill>
                <a:latin typeface="Times New Roman"/>
              </a:rPr>
              <a:t>	</a:t>
            </a:r>
            <a:r>
              <a:rPr b="0" lang="et-EE" sz="3200" spc="-1" strike="noStrike" baseline="-30000">
                <a:solidFill>
                  <a:srgbClr val="000000"/>
                </a:solidFill>
                <a:latin typeface="Times New Roman"/>
              </a:rPr>
              <a:t> </a:t>
            </a:r>
            <a:r>
              <a:rPr b="0" lang="et-EE" sz="3200" spc="-1" strike="noStrike" baseline="-30000">
                <a:solidFill>
                  <a:srgbClr val="000000"/>
                </a:solidFill>
                <a:latin typeface="Times New Roman"/>
                <a:ea typeface="Times New Roman"/>
              </a:rPr>
              <a:t>u</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D =&gt; P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tagasipöördumine Horni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lt D tõestab P</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eglid.</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685800" y="2571840"/>
            <a:ext cx="77724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imesed on ühese tõestuse reeglid, mis on üsna lihtsad. Oluline on viimane reegel, mis valib hulgas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Horni klausli otsingu tagasipöördumise jaoks.</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gasipöördumise reeglid käsitlevad Horni klausli vormi ja lammutavad seda vasakreegli abil.  Kui kasutame seda tõestusotsingu protseduurina ja liiguma alt-üles, siis on termide äraarvamise asemele muutujate unifitseerimine ja vasakpoolseimat eeldust käsitletakse kõige en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85800" y="2259000"/>
            <a:ext cx="777240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7:48:24Z</dcterms:created>
  <dc:creator>Tiina Zingel</dc:creator>
  <dc:description/>
  <dc:language>en-US</dc:language>
  <cp:lastModifiedBy>Tiina Zingel</cp:lastModifiedBy>
  <dcterms:modified xsi:type="dcterms:W3CDTF">2006-03-21T07:48:52Z</dcterms:modified>
  <cp:revision>1</cp:revision>
  <dc:subject/>
  <dc:title>6.2. Fokuseerimine.</dc:title>
</cp:coreProperties>
</file>